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D3F-D66D-4C93-9818-51D33F57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3B6-9202-4DCA-8CB5-53D25851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9E9-AAEB-41CE-B249-5DA3B959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D2B-34B6-43B6-BE80-B208782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FAA-DAAC-4A0F-9288-81DAADD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ED4-9C56-4669-BDB9-62EF4C6A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88A-AE53-47DA-98FA-0EF6DE1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264-8CF4-46DE-B807-A36C527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24A-165E-4921-861D-B4070CD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176-BF34-4528-9235-BD125EC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3A6-E57A-406D-8FF5-CEADACF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86D-9DF6-4973-9551-84FA766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F49-C17F-47D2-A4E4-E2AC17AA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 stare at happ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glar.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65600">
            <a:off x="5562360" y="3206160"/>
            <a:ext cx="1636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excite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3:10Z</dcterms:modified>
  <cp:revision>3</cp:revision>
  <dc:subject/>
  <dc:title>PowerPoint Presentation</dc:title>
</cp:coreProperties>
</file>